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ABD2-A636-482C-BBAB-E1962A6C0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core4/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piece of code that decides whether the current ontology can be used with the editor k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sents any necessary data that the annotation will be 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component that allows the editing of one or more types of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component that displays the editable instances in this ontology and may provide some editing functions. The index (indices) of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19040" y="878040"/>
            <a:ext cx="4219920" cy="31654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062000" y="4349520"/>
            <a:ext cx="4740480" cy="351468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 anchorCtr="1">
            <a:noAutofit/>
          </a:bodyPr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piece of code that decides whether the current ontology can be used with the editor k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Presents any necessary data that the annotation will be 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component that allows the editing of one or more types of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A component that displays the editable instances in this ontology and may provide some editing functions. The index (indices) of insta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73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509-6275-4B8F-953C-E647A951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6D57-308D-40F1-B001-87DCB180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B9FD-6C7B-489D-ABFA-6A3FB66E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6BB3-AFEB-4054-A6B9-F2A8A309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0CF-C5F0-4EEB-839B-CB3379E4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7B0-39F8-4093-B7C6-8A5D693B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C228-16F8-4AB2-92E0-345B1C32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55B3-DBAB-4437-8ABC-AAEC4B30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670C-46BD-48FC-AC8E-F13DA0B9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B87-BF8E-49C3-8BF6-066D37CD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26A-C31E-49AC-8D3E-ECA01A43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E1E3-C5ED-41BC-8A8A-217F469C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spcBef>
                <a:spcPts val="7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spcBef>
                <a:spcPts val="7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424160" indent="-2034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30960" indent="-2034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3536-2401-4CD8-BC5A-567F905D90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: Bioinformatic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NCBO-Berkele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Gill Sans"/>
              </a:rPr>
              <a:t>The pieces of an Annotation Ki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Instance brows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vidence browser and selec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nvironmental context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ntity genotype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Assay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Gill Sans"/>
              </a:rPr>
              <a:t>Instance phenotype edi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Ontology recogniz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Ontology term loca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from published evidenc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8920" y="2333520"/>
            <a:ext cx="8958240" cy="21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ntologies enable users to describe assay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84240" y="2171880"/>
            <a:ext cx="9306000" cy="3771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ntologies enable users to describe environmen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88920" y="1978200"/>
            <a:ext cx="9315360" cy="2906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ntologies enable users to describe genotyp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57320" y="1863720"/>
            <a:ext cx="9452160" cy="499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em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lanning ahead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 Specific Ai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ftware toolkit for describing and classifying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pture, manage, and view data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 (OBD) and interfaces to store and view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vestigate and compare im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ing human diseases to model syste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 Specific Ai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000"/>
                </a:solidFill>
                <a:latin typeface="Gill Sans"/>
              </a:rPr>
              <a:t>Software toolkit for describing and classifying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pture, manage, and view data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 (OBD) and interfaces to store and view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vestigate and compare im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ing human diseases to model syste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67880" indent="-3837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Elicitation of Requirements for Annotation Tools</a:t>
            </a:r>
            <a:endParaRPr b="0" lang="en-US" sz="40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pplications pull from pioneer users in Core 3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ZFI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lyBas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rial Bank</a:t>
            </a:r>
            <a:r>
              <a:rPr b="0" lang="en-US" sz="2000" spc="-1" strike="noStrike">
                <a:solidFill>
                  <a:srgbClr val="336699"/>
                </a:solidFill>
                <a:latin typeface="Gill San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udy these groups currently annotate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termine how our Core 2 tools can integrate with existing data flows and databa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valuate the commonalities and differences among approach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evelopment of 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ata-Annotation Too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velop plug-in architectu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09120" indent="-2343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ault user interface for generic data-annotation task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09120" indent="-2343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ustom-tailored interfaces for particular biomedical domai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nable interoperability with existing ontology-management platfor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81160" indent="-28116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grate ontology-annotation tool with BioPort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09120" indent="-2343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ccess ontologies for data annotation from OB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09120" indent="-2343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ore data annotations in OB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reating </a:t>
            </a:r>
            <a:r>
              <a:rPr b="1" lang="en-US" sz="4400" spc="-1" strike="noStrike">
                <a:solidFill>
                  <a:srgbClr val="e3ebf1"/>
                </a:solidFill>
                <a:latin typeface="Gill Sans"/>
              </a:rPr>
              <a:t>associations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9" name=""/>
          <p:cNvSpPr/>
          <p:nvPr/>
        </p:nvSpPr>
        <p:spPr>
          <a:xfrm>
            <a:off x="487440" y="2209680"/>
            <a:ext cx="2546280" cy="3200400"/>
          </a:xfrm>
          <a:prstGeom prst="rect">
            <a:avLst/>
          </a:prstGeom>
          <a:noFill/>
          <a:ln w="57240">
            <a:solidFill>
              <a:srgbClr val="468a4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x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et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 ob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8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ub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516720" y="3200400"/>
            <a:ext cx="9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gu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468a4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ff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quence I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5943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62" idx="2"/>
          </p:cNvCxnSpPr>
          <p:nvPr/>
        </p:nvCxnSpPr>
        <p:spPr>
          <a:xfrm flipV="1" rot="16200000">
            <a:off x="3114000" y="4485600"/>
            <a:ext cx="2912040" cy="3960"/>
          </a:xfrm>
          <a:prstGeom prst="bentConnector3">
            <a:avLst>
              <a:gd name="adj1" fmla="val 50000"/>
            </a:avLst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cxnSp>
        <p:nvCxnSpPr>
          <p:cNvPr id="70" name=""/>
          <p:cNvCxnSpPr>
            <a:stCxn id="68" idx="0"/>
            <a:endCxn id="60" idx="3"/>
          </p:cNvCxnSpPr>
          <p:nvPr/>
        </p:nvCxnSpPr>
        <p:spPr>
          <a:xfrm flipV="1" rot="16200000">
            <a:off x="2380680" y="3752280"/>
            <a:ext cx="2705760" cy="1677240"/>
          </a:xfrm>
          <a:prstGeom prst="curvedConnector2">
            <a:avLst/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cxnSp>
        <p:nvCxnSpPr>
          <p:cNvPr id="71" name=""/>
          <p:cNvCxnSpPr>
            <a:stCxn id="68" idx="0"/>
            <a:endCxn id="61" idx="3"/>
          </p:cNvCxnSpPr>
          <p:nvPr/>
        </p:nvCxnSpPr>
        <p:spPr>
          <a:xfrm flipV="1" rot="16200000">
            <a:off x="3066840" y="4438080"/>
            <a:ext cx="1296000" cy="1715040"/>
          </a:xfrm>
          <a:prstGeom prst="curvedConnector2">
            <a:avLst/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cxnSp>
        <p:nvCxnSpPr>
          <p:cNvPr id="72" name=""/>
          <p:cNvCxnSpPr>
            <a:stCxn id="68" idx="0"/>
            <a:endCxn id="63" idx="1"/>
          </p:cNvCxnSpPr>
          <p:nvPr/>
        </p:nvCxnSpPr>
        <p:spPr>
          <a:xfrm flipH="1" flipV="1" rot="5400000">
            <a:off x="4171680" y="3638160"/>
            <a:ext cx="2705760" cy="1905840"/>
          </a:xfrm>
          <a:prstGeom prst="curvedConnector2">
            <a:avLst/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cxnSp>
        <p:nvCxnSpPr>
          <p:cNvPr id="73" name=""/>
          <p:cNvCxnSpPr>
            <a:stCxn id="68" idx="0"/>
            <a:endCxn id="66" idx="1"/>
          </p:cNvCxnSpPr>
          <p:nvPr/>
        </p:nvCxnSpPr>
        <p:spPr>
          <a:xfrm flipH="1" flipV="1" rot="5400000">
            <a:off x="4933440" y="4285800"/>
            <a:ext cx="1296000" cy="2019960"/>
          </a:xfrm>
          <a:prstGeom prst="curvedConnector2">
            <a:avLst/>
          </a:prstGeom>
          <a:ln w="57240">
            <a:solidFill>
              <a:srgbClr val="336699"/>
            </a:solidFill>
            <a:miter/>
            <a:tailEnd len="med" type="stealth" w="med"/>
          </a:ln>
        </p:spPr>
      </p:cxnSp>
      <p:sp>
        <p:nvSpPr>
          <p:cNvPr id="74" name=""/>
          <p:cNvSpPr/>
          <p:nvPr/>
        </p:nvSpPr>
        <p:spPr>
          <a:xfrm>
            <a:off x="304920" y="1905120"/>
            <a:ext cx="8458200" cy="3809880"/>
          </a:xfrm>
          <a:prstGeom prst="rect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5280" y="2666880"/>
            <a:ext cx="8714880" cy="187200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Genotyp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Environmen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3399"/>
                </a:solidFill>
                <a:latin typeface="Courier New"/>
              </a:rPr>
              <a:t>Ass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henotype = Stage* Entity Attribute Entity*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asurement*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asurement = Unit Value (Tim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ttribute =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PATOVersion2ClassI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efinition of an associ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66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Gill Sans"/>
              </a:rPr>
              <a:t>Our Annotation Task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98680"/>
            <a:ext cx="7772400" cy="62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ill Sans"/>
              </a:rPr>
              <a:t>Annotation: describing an instance with a set of associated ontological term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Genotype, environmental, assay, evidence, and </a:t>
            </a:r>
            <a:r>
              <a:rPr b="1" lang="en-GB" sz="2800" spc="-1" strike="noStrike">
                <a:solidFill>
                  <a:srgbClr val="ff8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ill Sans"/>
              </a:rPr>
              <a:t>For an association we need to capture the following data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A name or tag for the insta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The evidence for the observ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Gill Sans"/>
              </a:rPr>
              <a:t>For example, the URL of an im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A list of associated terms comprising the anno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3ebf1"/>
                </a:solidFill>
                <a:latin typeface="Gill Sans"/>
              </a:rPr>
              <a:t>The pieces of an Annotation Ki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Instance brows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vidence browser and selec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nvironmental context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Entity genotype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Assay specifi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Instance phenotype edi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Ontology recogniz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603360" indent="-603360"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ill Sans"/>
              </a:rPr>
              <a:t>Ontology term loca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1:28:44Z</dcterms:created>
  <dc:creator>Chris Mungall</dc:creator>
  <dc:description/>
  <dc:language>en-US</dc:language>
  <cp:lastModifiedBy>Suzanna Lewis</cp:lastModifiedBy>
  <dcterms:modified xsi:type="dcterms:W3CDTF">2006-03-03T19:18:35Z</dcterms:modified>
  <cp:revision>457</cp:revision>
  <dc:subject/>
  <dc:title>NCBIO-Berkeley</dc:title>
</cp:coreProperties>
</file>